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584E-0CA1-486E-82BC-9C66D81F7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on 5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F63-7907-40F5-A67C-59DEEC8129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B18-F96A-46F9-8A57-D72BDFA7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FC1-0C29-4141-8A95-DD69F39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EBB30-33B7-40ED-8582-BFCE2D1C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0CE4A-0A58-4380-A670-A16E823F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BE4A8-47A8-4BD5-A26E-464955DE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3B575-466F-4C55-A485-1351F006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B2AF2-8A68-49FB-ACDC-610C4841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A3CF2-CE86-4267-A927-7DC8B9C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AAD33-11B8-4C02-AAF6-388519E4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608D0-4C35-47BF-B335-4BA9E249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C5F55-437B-4E15-AA1C-05603CD3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9D9F6-40D0-4D3D-8446-093B8589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DE0-4E62-40F3-B221-D2B79EBE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9FB2B-8CAD-4BA5-859B-A16BA66B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6088D-6165-4FBF-B7C8-BDF85473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E764A-1E7D-4C64-BAF7-1FBFBD1F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E9F09-7D2D-4EE3-B73A-6DE2FF3F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AF47C-8468-4ABE-8776-A9F2C983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E631B-1CC7-4963-ADCA-3ADDF0B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F8247-BE9D-437E-A7BF-8CAA82B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0E9AA-AB6D-4937-99CA-34E6FDF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686AF-ECA3-49F2-8BC0-1211F7F3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50213-0D08-4C64-AAE1-66EDE81B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2D6-1DE5-48E4-B2D9-80109653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7B76F-365A-4A4C-99FC-29322BEC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E1D4-614F-47E2-855C-CF19C2A6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0C98D-8007-4C4A-8EE7-4673C5B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1619-E913-4EB4-A894-60ED6CFE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266B4-06A5-45B2-A6C6-F9B1778B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97BE1-45DF-4264-9513-41AF537F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FCCCC-AE3E-4A58-869C-017DD734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56086-1506-483B-B7ED-5F9F2B2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ECF0-C0BA-41A4-B36F-3B90902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4118B-235D-49D1-8F6D-B06AEF2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F25D-CBF4-43C7-91C6-4811F3AF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FECBE-D894-41F8-A67A-C8B4923A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5EA50-D591-4DF2-8F05-90354345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58BF5-73E4-4203-BF31-DB15B703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B5154-83FC-4EFB-ABBA-8B35D5EA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C2A64-5BBD-4823-A509-0146C6B6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742CD-6C7D-4DC1-817E-C88BA864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6C5FE-77E2-4DED-BA3C-5C3871B1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6ED9D-FA23-4144-BE8C-7CBED4B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47D26-D71B-4BD3-88D0-55331C1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D0265-7814-4935-B5AF-07BEE54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D9C4-10B6-44EA-AE7C-31C1C915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0C098-67DE-4B20-B9A6-5FA1417A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2EF8E-B0A5-4334-92DF-875284C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24A76-1C3C-49D6-BA2E-C7DECC7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DFDA4-56AE-425D-BB97-AEDE63CB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4C599-373D-4582-8070-48A36918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76E-A0DC-4DCC-B8DE-12C7579E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B91-3211-4EE1-9908-2C5BE651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6020-18E4-4D32-8526-F3868A6B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A2B7-B991-449C-AB08-104BF17F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EFD2-70FB-4D94-BEF4-5B955C8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28B-8C46-4770-BFBD-35FA3C94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BFCF-9249-406A-9F73-CA46EA21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5CF5-B233-4D4C-B889-C47C71A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ADA2-A500-4D82-B7F3-2954E33B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768-1330-4112-AC8F-8E8825EC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12B5-FB64-4632-8AE1-B9DEBED6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7421-9401-4974-A455-2E42B08A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8344-67C1-457D-BBEE-14419DB1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7A6B-AA84-45AA-A919-65AC75FD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5212-8FC8-4A37-858A-C337EAB7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429B-0A1B-45B5-B16D-171E7D7D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50D-A99D-43F4-8AD0-F42EE86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C648-B8A8-45A4-ACD2-5FD348F1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AC82-63AE-4C7F-9433-31E05B5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2B4E-39A8-40F3-9A19-252DE67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5B3C-1B3A-4877-97C7-F02227E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6C4E-EA3F-4DDC-8B2A-844CC762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7FF2-9252-466D-94FD-930DF39B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F4C0-2C30-4BD2-A7E5-BE656897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1439-1170-467B-AF55-65FC2445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2D72-D4D5-487F-8362-1D936A44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27E8-000F-4A6C-90C6-2CC5FA51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620-66C1-47C5-BCBF-272C9BC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BD06-8410-46DF-B444-DAE777AA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7F44-1BFF-4853-9006-B9C91953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77DF-6900-41AB-B105-5BAA43C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1825-1901-46EF-8A83-4088241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3AD4-091B-4788-BC84-B96E320C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1D58-F9BF-4C86-BF87-664BCBA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FFAAF-34E8-43E8-8D91-F946FB6D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1689-D33C-45F4-A049-A1B6FC04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1D48-8042-4B34-9747-D3F5AB89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610E-90ED-497A-87AD-2FD0F576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A21-212E-486F-9DBD-7469A88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DCF2-60C2-4014-B561-E7A14295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5C556-056B-40CB-B3BC-B7CA65B6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5864-3C3C-423E-9603-F4248276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4AAB-D049-44C0-B0BE-6ED5CC79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0864-8434-42A2-BD2B-7C2FD119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D4FF2-0056-47AA-9ED4-8F4D723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EDE7-4986-4BF7-9C0C-0F95E7A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BD36-33E3-4D84-89E0-8AD9071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6432-DE67-412F-B1C1-E372C239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A983-AAB8-4020-A2D3-63E33887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F69-52EF-452D-A4BA-52C6FB50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D744C-8F7C-4F92-8A8E-1841C298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CD59-6401-42C7-855B-6C62F412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A8683-579E-48AA-839F-C76EADF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DADDF-C417-47E0-B1BF-59C4067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C1CE1-76C2-4BF9-B023-5C6BC0FD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1BC3F-6FEC-429E-A946-F6E18D23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B7613-2796-428B-BBE7-49417FB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EA743-969B-4264-A935-EE301C4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9A53E-3435-4B41-8253-CAB7DAAE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CBC3-B774-4E2A-8BF7-B6B8BB5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0C4-12C7-4AD2-8D9C-49EDC73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37B8C-2E7D-4E0D-A348-57A045D2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66532-7CB4-44DA-A967-6D880A18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30B5-A86D-4588-9E68-8572E16B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A98C-10E8-4CC3-A40A-028EF0DE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AA82-1FAC-41C8-A0D5-3991B1F3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6C6BB-D6C0-4042-ABEF-F4CB235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C40D8-41B3-4F97-B29E-5ADB23F1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DB106-6E93-4DC2-91FC-4C2DBD87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60457-E261-439E-8DFB-8A03FEF5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956D7-2954-4706-9654-DE0D3B6D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456-6687-43CE-89DE-59C34BC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FAB6-BAE2-4DFD-A0F2-5CF78FD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7F1F-19BE-4698-9BAE-1698FDB6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058C-02B6-45E5-897A-12319AA3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F02BB-674D-4FEC-81C2-1AFDA837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8E02E-8F24-4EEB-A019-C0F2F557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3B6EA-865C-4444-9EC4-751C2695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BB6C3-F7A2-4688-B98E-5C2743A3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BCA16-5512-464D-AEA4-5F283B6D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0CE45-A86E-407B-BE1A-26DFFED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76A4-F7A5-41FE-BA84-B78CE68E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54A-0BD8-4700-AEFB-ADC018C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09689-1EE4-460D-8439-24D963F3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7BE25-7FFE-4177-85A6-4B184D1F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2B919-4A64-4109-BB13-B90E518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0C3F2-47B7-4BA3-9837-51870C0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033DC-3B56-49A9-8D8C-B9FF2D55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84DF7-B491-45CF-B06B-5595A852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DE11-05D3-43BE-BC89-3E93643C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9AD4B-EE1E-481C-9F3D-68BF6BA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D96FA-BCF9-450B-B5AD-DE8D678F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3E551-CB3D-43B5-8672-1C44681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4C6D-177A-487B-9683-7700E6C4BD7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8070-16E0-40E4-BC90-E398059B4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4BD-387C-41F6-9394-85F2B8144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B6A-4C05-473D-8FC5-DDAB9B071D0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A841-A266-4F35-BF9F-DC48F79D422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854E-D24E-44DE-BF6D-74841115A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D4F2-611C-447B-9D25-562032845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BC0-56DB-4491-A231-2DF058D53D1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7336-9269-44E8-91E9-A11F355433F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C4A7-7223-4635-81DC-194AD998E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5ABA-8D09-43CF-96BA-FAF901E8DAD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A620-5FAD-467B-839E-14759590F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5AF-EAC5-4891-975B-335E9EDEE12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B7DC-1327-415F-9BCA-A687F70FB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ED1A-F3BD-41E4-8385-95A009F78EE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28B-5CBA-4B65-A38C-F7B5BF4BB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57C-4108-49C5-8D99-96161B379A7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E71F-F88B-4E00-A6E5-88CE43517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01B-192C-4B1C-B3FF-15FCC644145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B95B-3947-489B-B0DC-B355E0F21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6635-73B2-4B07-AD88-3989DC94513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E4FE-9235-4DC6-95C8-827599E9ED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255A-5724-4153-9CB2-7E2D2B74D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102-872C-480C-A333-BBE000005D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osting Separate Amounts from a Journal to a General Ledg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POSTING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TRANSFERRING INFORMATION FROM A JOURNAL ENTRY TO A LEDGER ACCOUNT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POSTING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POST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Subtitle 3"/>
          <p:cNvSpPr/>
          <p:nvPr/>
        </p:nvSpPr>
        <p:spPr>
          <a:xfrm>
            <a:off x="228600" y="11430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TRANSFERRING INFORMATION FROM A JOURNAL ENTRY TO A LEDGER ACCOUNT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d16349"/>
                </a:solidFill>
                <a:uFillTx/>
                <a:latin typeface="Georgia"/>
              </a:rPr>
              <a:t>POSTING RU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Baskerville"/>
                <a:ea typeface="Baskerville"/>
              </a:rPr>
              <a:t>1.)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SEPARATE AMOUNTS IN THE JOURNAL’S </a:t>
            </a:r>
            <a:r>
              <a:rPr b="1" lang="en-US" sz="1800" spc="-1" strike="noStrike">
                <a:solidFill>
                  <a:srgbClr val="cc0000"/>
                </a:solidFill>
                <a:latin typeface="Baskerville"/>
                <a:ea typeface="Baskerville"/>
              </a:rPr>
              <a:t>GENERAL AMOUNT COLUMNS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ARE POSTED INDIVIDUALLY TO THE ACCOUNT WRITTEN IN THE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Baskerville"/>
                <a:ea typeface="Baskerville"/>
              </a:rPr>
              <a:t>ACCOUNT TITLE COLUMN</a:t>
            </a:r>
            <a:r>
              <a:rPr b="1" lang="en-US" sz="1800" spc="-1" strike="noStrike" u="sng">
                <a:solidFill>
                  <a:srgbClr val="646b86"/>
                </a:solidFill>
                <a:uFillTx/>
                <a:latin typeface="Baskerville"/>
                <a:ea typeface="Baskerville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"/>
                <a:ea typeface="Baskerville"/>
              </a:rPr>
              <a:t>2.)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SEPARATE AMOUNTS IN A JOURNAL’S </a:t>
            </a:r>
            <a:r>
              <a:rPr b="1" lang="en-US" sz="1800" spc="-1" strike="noStrike">
                <a:solidFill>
                  <a:srgbClr val="cc0000"/>
                </a:solidFill>
                <a:latin typeface="Baskerville"/>
                <a:ea typeface="Baskerville"/>
              </a:rPr>
              <a:t>SPECIAL AMOUNT COLUMNS 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ARE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Baskerville"/>
                <a:ea typeface="Baskerville"/>
              </a:rPr>
              <a:t>NOT</a:t>
            </a:r>
            <a:r>
              <a:rPr b="1" lang="en-US" sz="1800" spc="-1" strike="noStrike">
                <a:solidFill>
                  <a:srgbClr val="646b86"/>
                </a:solidFill>
                <a:latin typeface="Baskerville"/>
                <a:ea typeface="Baskerville"/>
              </a:rPr>
              <a:t> POSTED INDIVIDUALLY.  INSTEAD, THE COLUMN TOTALS ARE POSTED TO THE ACCOUNT NAMED IN THE HEADING OF THE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Baskerville"/>
                <a:ea typeface="Baskerville"/>
              </a:rPr>
              <a:t>SPECIAL AMOUNT COLUM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b9899"/>
                </a:solidFill>
                <a:latin typeface="Georgia"/>
              </a:rPr>
              <a:t>POSTING AN AMOUNT FROM A </a:t>
            </a:r>
            <a:br>
              <a:rPr sz="2700"/>
            </a:br>
            <a:r>
              <a:rPr b="0" lang="en-US" sz="2700" spc="-1" strike="noStrike">
                <a:solidFill>
                  <a:srgbClr val="7b9899"/>
                </a:solidFill>
                <a:latin typeface="Georgia"/>
              </a:rPr>
              <a:t>GENERAL DEBIT COLUMN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Picture 3" descr="D:\C21 PowerPoint\Multi_Journal\art for blue\Ch05\Ch05-02a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29718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9"/>
          <p:cNvSpPr/>
          <p:nvPr/>
        </p:nvSpPr>
        <p:spPr>
          <a:xfrm>
            <a:off x="365040" y="42782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1"/>
          <p:cNvGrpSpPr/>
          <p:nvPr/>
        </p:nvGrpSpPr>
        <p:grpSpPr>
          <a:xfrm>
            <a:off x="3885840" y="2361960"/>
            <a:ext cx="1676520" cy="609480"/>
            <a:chOff x="3885840" y="2361960"/>
            <a:chExt cx="1676520" cy="609480"/>
          </a:xfrm>
        </p:grpSpPr>
        <p:sp>
          <p:nvSpPr>
            <p:cNvPr id="621" name="Line 10"/>
            <p:cNvSpPr/>
            <p:nvPr/>
          </p:nvSpPr>
          <p:spPr>
            <a:xfrm flipH="1" flipV="1">
              <a:off x="3885840" y="2361960"/>
              <a:ext cx="167652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"/>
            <p:cNvSpPr/>
            <p:nvPr/>
          </p:nvSpPr>
          <p:spPr>
            <a:xfrm>
              <a:off x="4495680" y="24382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4"/>
          <p:cNvGrpSpPr/>
          <p:nvPr/>
        </p:nvGrpSpPr>
        <p:grpSpPr>
          <a:xfrm>
            <a:off x="2514600" y="1482840"/>
            <a:ext cx="5410080" cy="3141720"/>
            <a:chOff x="2514600" y="1482840"/>
            <a:chExt cx="5410080" cy="3141720"/>
          </a:xfrm>
        </p:grpSpPr>
        <p:sp>
          <p:nvSpPr>
            <p:cNvPr id="624" name="Freeform 13"/>
            <p:cNvSpPr/>
            <p:nvPr/>
          </p:nvSpPr>
          <p:spPr>
            <a:xfrm>
              <a:off x="2514600" y="1482840"/>
              <a:ext cx="54100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8"/>
            <p:cNvSpPr/>
            <p:nvPr/>
          </p:nvSpPr>
          <p:spPr>
            <a:xfrm>
              <a:off x="5925960" y="41673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5"/>
          <p:cNvGrpSpPr/>
          <p:nvPr/>
        </p:nvGrpSpPr>
        <p:grpSpPr>
          <a:xfrm>
            <a:off x="3505320" y="3487680"/>
            <a:ext cx="914400" cy="457200"/>
            <a:chOff x="3505320" y="3487680"/>
            <a:chExt cx="914400" cy="457200"/>
          </a:xfrm>
        </p:grpSpPr>
        <p:sp>
          <p:nvSpPr>
            <p:cNvPr id="627" name="Line 14"/>
            <p:cNvSpPr/>
            <p:nvPr/>
          </p:nvSpPr>
          <p:spPr>
            <a:xfrm>
              <a:off x="3505320" y="3716280"/>
              <a:ext cx="9144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7"/>
            <p:cNvSpPr/>
            <p:nvPr/>
          </p:nvSpPr>
          <p:spPr>
            <a:xfrm>
              <a:off x="3733920" y="34876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7"/>
          <p:cNvGrpSpPr/>
          <p:nvPr/>
        </p:nvGrpSpPr>
        <p:grpSpPr>
          <a:xfrm>
            <a:off x="380880" y="2362320"/>
            <a:ext cx="785880" cy="1143000"/>
            <a:chOff x="380880" y="2362320"/>
            <a:chExt cx="785880" cy="1143000"/>
          </a:xfrm>
        </p:grpSpPr>
        <p:sp>
          <p:nvSpPr>
            <p:cNvPr id="630" name="Freeform 16"/>
            <p:cNvSpPr/>
            <p:nvPr/>
          </p:nvSpPr>
          <p:spPr>
            <a:xfrm>
              <a:off x="709560" y="2362320"/>
              <a:ext cx="457200" cy="11430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5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19"/>
          <p:cNvGrpSpPr/>
          <p:nvPr/>
        </p:nvGrpSpPr>
        <p:grpSpPr>
          <a:xfrm>
            <a:off x="3276720" y="2362320"/>
            <a:ext cx="1218960" cy="1218960"/>
            <a:chOff x="3276720" y="2362320"/>
            <a:chExt cx="1218960" cy="1218960"/>
          </a:xfrm>
        </p:grpSpPr>
        <p:sp>
          <p:nvSpPr>
            <p:cNvPr id="633" name="Line 18"/>
            <p:cNvSpPr/>
            <p:nvPr/>
          </p:nvSpPr>
          <p:spPr>
            <a:xfrm flipH="1">
              <a:off x="3276720" y="2362320"/>
              <a:ext cx="121896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6"/>
            <p:cNvSpPr/>
            <p:nvPr/>
          </p:nvSpPr>
          <p:spPr>
            <a:xfrm>
              <a:off x="3809880" y="28195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20"/>
          <p:cNvSpPr/>
          <p:nvPr/>
        </p:nvSpPr>
        <p:spPr>
          <a:xfrm>
            <a:off x="365040" y="46483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63600" y="50115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365040" y="53751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363600" y="5715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 in the Post. Ref. column of the jour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5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2, page 10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POSTING A SECOND AMOUNT TO AN ACCOUNT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3" descr="D:\C21 PowerPoint\Multi_Journal\art for blue\Ch05\Ch05-02b.jpg"/>
          <p:cNvPicPr/>
          <p:nvPr/>
        </p:nvPicPr>
        <p:blipFill>
          <a:blip r:embed="rId1"/>
          <a:srcRect l="0" t="7375" r="0" b="18227"/>
          <a:stretch/>
        </p:blipFill>
        <p:spPr>
          <a:xfrm>
            <a:off x="457200" y="685800"/>
            <a:ext cx="8182080" cy="39654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365040" y="47275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28"/>
          <p:cNvGrpSpPr/>
          <p:nvPr/>
        </p:nvGrpSpPr>
        <p:grpSpPr>
          <a:xfrm>
            <a:off x="3885840" y="2285640"/>
            <a:ext cx="1676520" cy="990360"/>
            <a:chOff x="3885840" y="2285640"/>
            <a:chExt cx="1676520" cy="990360"/>
          </a:xfrm>
        </p:grpSpPr>
        <p:sp>
          <p:nvSpPr>
            <p:cNvPr id="644" name="Line 6"/>
            <p:cNvSpPr/>
            <p:nvPr/>
          </p:nvSpPr>
          <p:spPr>
            <a:xfrm flipH="1" flipV="1">
              <a:off x="3885840" y="2285640"/>
              <a:ext cx="1676520" cy="990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"/>
            <p:cNvSpPr/>
            <p:nvPr/>
          </p:nvSpPr>
          <p:spPr>
            <a:xfrm>
              <a:off x="4648320" y="25905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4"/>
          <p:cNvGrpSpPr/>
          <p:nvPr/>
        </p:nvGrpSpPr>
        <p:grpSpPr>
          <a:xfrm>
            <a:off x="2514600" y="934920"/>
            <a:ext cx="5410080" cy="4190760"/>
            <a:chOff x="2514600" y="934920"/>
            <a:chExt cx="5410080" cy="4190760"/>
          </a:xfrm>
        </p:grpSpPr>
        <p:sp>
          <p:nvSpPr>
            <p:cNvPr id="647" name="Freeform 9"/>
            <p:cNvSpPr/>
            <p:nvPr/>
          </p:nvSpPr>
          <p:spPr>
            <a:xfrm>
              <a:off x="2514600" y="934920"/>
              <a:ext cx="5410080" cy="39621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"/>
            <p:cNvSpPr/>
            <p:nvPr/>
          </p:nvSpPr>
          <p:spPr>
            <a:xfrm>
              <a:off x="5925960" y="46684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3505320" y="3962520"/>
            <a:ext cx="914400" cy="457200"/>
            <a:chOff x="3505320" y="3962520"/>
            <a:chExt cx="914400" cy="457200"/>
          </a:xfrm>
        </p:grpSpPr>
        <p:sp>
          <p:nvSpPr>
            <p:cNvPr id="650" name="Line 12"/>
            <p:cNvSpPr/>
            <p:nvPr/>
          </p:nvSpPr>
          <p:spPr>
            <a:xfrm>
              <a:off x="3505320" y="4191120"/>
              <a:ext cx="9144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>
              <a:off x="3733920" y="39625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27"/>
          <p:cNvGrpSpPr/>
          <p:nvPr/>
        </p:nvGrpSpPr>
        <p:grpSpPr>
          <a:xfrm>
            <a:off x="3352320" y="2286000"/>
            <a:ext cx="1143000" cy="1828800"/>
            <a:chOff x="3352320" y="2286000"/>
            <a:chExt cx="1143000" cy="1828800"/>
          </a:xfrm>
        </p:grpSpPr>
        <p:sp>
          <p:nvSpPr>
            <p:cNvPr id="653" name="Line 18"/>
            <p:cNvSpPr/>
            <p:nvPr/>
          </p:nvSpPr>
          <p:spPr>
            <a:xfrm flipH="1">
              <a:off x="3352320" y="2286000"/>
              <a:ext cx="1143000" cy="1828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9"/>
            <p:cNvSpPr/>
            <p:nvPr/>
          </p:nvSpPr>
          <p:spPr>
            <a:xfrm>
              <a:off x="3809880" y="27432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20"/>
          <p:cNvSpPr/>
          <p:nvPr/>
        </p:nvSpPr>
        <p:spPr>
          <a:xfrm>
            <a:off x="365040" y="50292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363600" y="53341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ebit am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65040" y="56386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363600" y="5943600"/>
            <a:ext cx="87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 in the Post. Ref. column of the jour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6"/>
          <p:cNvGrpSpPr/>
          <p:nvPr/>
        </p:nvGrpSpPr>
        <p:grpSpPr>
          <a:xfrm>
            <a:off x="380880" y="2209680"/>
            <a:ext cx="762120" cy="1981080"/>
            <a:chOff x="380880" y="2209680"/>
            <a:chExt cx="762120" cy="1981080"/>
          </a:xfrm>
        </p:grpSpPr>
        <p:sp>
          <p:nvSpPr>
            <p:cNvPr id="660" name="Freeform 25"/>
            <p:cNvSpPr/>
            <p:nvPr/>
          </p:nvSpPr>
          <p:spPr>
            <a:xfrm>
              <a:off x="533520" y="2209680"/>
              <a:ext cx="609480" cy="19810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6"/>
            <p:cNvSpPr/>
            <p:nvPr/>
          </p:nvSpPr>
          <p:spPr>
            <a:xfrm>
              <a:off x="380880" y="243828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OSTING AN AMOUNT FROM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A GENERAL CREDIT COLUMN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3" name="Picture 3" descr="D:\C21 PowerPoint\Multi_Journal\art for blue\Ch05\Ch05-02c.jpg"/>
          <p:cNvPicPr/>
          <p:nvPr/>
        </p:nvPicPr>
        <p:blipFill>
          <a:blip r:embed="rId1"/>
          <a:stretch/>
        </p:blipFill>
        <p:spPr>
          <a:xfrm>
            <a:off x="457200" y="1143000"/>
            <a:ext cx="8062920" cy="29448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4"/>
          <p:cNvSpPr/>
          <p:nvPr/>
        </p:nvSpPr>
        <p:spPr>
          <a:xfrm>
            <a:off x="365040" y="427824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6"/>
          <p:cNvGrpSpPr/>
          <p:nvPr/>
        </p:nvGrpSpPr>
        <p:grpSpPr>
          <a:xfrm>
            <a:off x="3885840" y="2133720"/>
            <a:ext cx="1600560" cy="761760"/>
            <a:chOff x="3885840" y="2133720"/>
            <a:chExt cx="1600560" cy="761760"/>
          </a:xfrm>
        </p:grpSpPr>
        <p:sp>
          <p:nvSpPr>
            <p:cNvPr id="666" name="Line 6"/>
            <p:cNvSpPr/>
            <p:nvPr/>
          </p:nvSpPr>
          <p:spPr>
            <a:xfrm flipH="1" flipV="1">
              <a:off x="3885840" y="2133720"/>
              <a:ext cx="1600200" cy="761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7"/>
            <p:cNvSpPr/>
            <p:nvPr/>
          </p:nvSpPr>
          <p:spPr>
            <a:xfrm>
              <a:off x="5029200" y="236232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8"/>
          <p:cNvGrpSpPr/>
          <p:nvPr/>
        </p:nvGrpSpPr>
        <p:grpSpPr>
          <a:xfrm>
            <a:off x="2438280" y="1482840"/>
            <a:ext cx="5410080" cy="3141720"/>
            <a:chOff x="2438280" y="1482840"/>
            <a:chExt cx="5410080" cy="3141720"/>
          </a:xfrm>
        </p:grpSpPr>
        <p:sp>
          <p:nvSpPr>
            <p:cNvPr id="669" name="Freeform 9"/>
            <p:cNvSpPr/>
            <p:nvPr/>
          </p:nvSpPr>
          <p:spPr>
            <a:xfrm>
              <a:off x="2438280" y="1482840"/>
              <a:ext cx="5410080" cy="28954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5849640" y="41673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4"/>
          <p:cNvGrpSpPr/>
          <p:nvPr/>
        </p:nvGrpSpPr>
        <p:grpSpPr>
          <a:xfrm>
            <a:off x="4267080" y="3452760"/>
            <a:ext cx="838440" cy="457200"/>
            <a:chOff x="4267080" y="3452760"/>
            <a:chExt cx="838440" cy="457200"/>
          </a:xfrm>
        </p:grpSpPr>
        <p:sp>
          <p:nvSpPr>
            <p:cNvPr id="672" name="Line 12"/>
            <p:cNvSpPr/>
            <p:nvPr/>
          </p:nvSpPr>
          <p:spPr>
            <a:xfrm>
              <a:off x="4267080" y="3657600"/>
              <a:ext cx="838440" cy="23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4419720" y="345276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8"/>
          <p:cNvGrpSpPr/>
          <p:nvPr/>
        </p:nvGrpSpPr>
        <p:grpSpPr>
          <a:xfrm>
            <a:off x="380880" y="2209680"/>
            <a:ext cx="685800" cy="1295640"/>
            <a:chOff x="380880" y="2209680"/>
            <a:chExt cx="685800" cy="1295640"/>
          </a:xfrm>
        </p:grpSpPr>
        <p:sp>
          <p:nvSpPr>
            <p:cNvPr id="675" name="Freeform 15"/>
            <p:cNvSpPr/>
            <p:nvPr/>
          </p:nvSpPr>
          <p:spPr>
            <a:xfrm>
              <a:off x="709560" y="2209680"/>
              <a:ext cx="357120" cy="129564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27"/>
          <p:cNvGrpSpPr/>
          <p:nvPr/>
        </p:nvGrpSpPr>
        <p:grpSpPr>
          <a:xfrm>
            <a:off x="3885840" y="2209680"/>
            <a:ext cx="1143000" cy="1371600"/>
            <a:chOff x="3885840" y="2209680"/>
            <a:chExt cx="1143000" cy="1371600"/>
          </a:xfrm>
        </p:grpSpPr>
        <p:sp>
          <p:nvSpPr>
            <p:cNvPr id="678" name="Line 18"/>
            <p:cNvSpPr/>
            <p:nvPr/>
          </p:nvSpPr>
          <p:spPr>
            <a:xfrm flipH="1">
              <a:off x="3885840" y="2209680"/>
              <a:ext cx="1143000" cy="1371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4038480" y="2743200"/>
              <a:ext cx="457200" cy="4572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646b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20"/>
          <p:cNvSpPr/>
          <p:nvPr/>
        </p:nvSpPr>
        <p:spPr>
          <a:xfrm>
            <a:off x="365040" y="46483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journal page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1"/>
          <p:cNvSpPr/>
          <p:nvPr/>
        </p:nvSpPr>
        <p:spPr>
          <a:xfrm>
            <a:off x="363600" y="50115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redit am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365040" y="53751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new account bal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3"/>
          <p:cNvSpPr/>
          <p:nvPr/>
        </p:nvSpPr>
        <p:spPr>
          <a:xfrm>
            <a:off x="363600" y="574992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account number in the Post. Ref. column of the jour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5-2, page 10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1:29:13Z</dcterms:created>
  <dc:creator>Mary Colleen McLaughlin</dc:creator>
  <dc:description/>
  <dc:language>en-US</dc:language>
  <cp:lastModifiedBy>David Combs</cp:lastModifiedBy>
  <cp:lastPrinted>1999-03-30T06:51:35Z</cp:lastPrinted>
  <dcterms:modified xsi:type="dcterms:W3CDTF">2011-10-19T22:02:38Z</dcterms:modified>
  <cp:revision>15</cp:revision>
  <dc:subject/>
  <dc:title>THE ACCOUNTING EQUATION</dc:title>
</cp:coreProperties>
</file>